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png" ContentType="image/png"/>
  <Override PartName="/ppt/media/image5.wmf" ContentType="image/x-wmf"/>
  <Override PartName="/ppt/media/image27.jpeg" ContentType="image/jpeg"/>
  <Override PartName="/ppt/media/image9.wmf" ContentType="image/x-wmf"/>
  <Override PartName="/ppt/media/image14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22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3.png" ContentType="image/png"/>
  <Override PartName="/ppt/media/image21.jpeg" ContentType="image/jpeg"/>
  <Override PartName="/ppt/media/image20.jpeg" ContentType="image/jpeg"/>
  <Override PartName="/ppt/media/image18.png" ContentType="image/png"/>
  <Override PartName="/ppt/media/image17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24.jpeg" ContentType="image/jpeg"/>
  <Override PartName="/ppt/media/image15.png" ContentType="image/png"/>
  <Override PartName="/ppt/media/image2.wmf" ContentType="image/x-wmf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324B-D1EE-4AAE-A132-DB3E75A9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7C6-4784-4C6E-8DD1-EE4E8E9D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41A7-3B56-4053-91B7-E6A51E78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B826-8C92-46EF-9F32-710D6394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938-C69A-4D3E-BB45-9714962B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8F6-6A8A-429F-92D9-3A66044F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8A6-7002-4C1D-A22B-13FFE64B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46BC-5D61-4337-8909-D8A797E6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18B-5DDF-4D23-BF87-CCECCDA7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024-CB0B-4623-BB1E-76856AAD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6FCD-91C0-4A9E-8DED-E61CE44F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AE1-7BC1-43D3-8B47-24CBF7F5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604D-2571-4E55-81BE-38C3D654C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562720"/>
            <a:ext cx="755676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HCl, HBr, HI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HCl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the strong ac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ccff"/>
                </a:solidFill>
                <a:uFillTx/>
                <a:latin typeface="Arial"/>
              </a:rPr>
              <a:t>Strong and Weak Acids/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534160" cy="2706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45" name=""/>
          <p:cNvSpPr/>
          <p:nvPr/>
        </p:nvSpPr>
        <p:spPr>
          <a:xfrm>
            <a:off x="838080" y="1143000"/>
            <a:ext cx="7696440" cy="155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rength of an acid (or base) is determined by the amount of </a:t>
            </a: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IO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Equilibria Involving A Weak Ac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99"/>
                </a:solidFill>
                <a:latin typeface="Arial"/>
              </a:rPr>
              <a:t>Step 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e equilibrium concs. in ICE tab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[HOAc]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[OAc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0" lang="en-US" sz="3000" spc="-1" strike="noStrike">
                <a:solidFill>
                  <a:srgbClr val="790015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0" lang="en-US" sz="3000" spc="-1" strike="noStrike">
                <a:solidFill>
                  <a:srgbClr val="0054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0" lang="en-US" sz="3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2720" y="437184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1.0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6760" y="502920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2720" y="556272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1.00-x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Step 2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rite K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express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460520" y="2705040"/>
          <a:ext cx="63118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2705040"/>
                    <a:ext cx="6311880" cy="83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50840" y="4038480"/>
            <a:ext cx="702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is is a quadratic. Solve using quadratic form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5334120"/>
            <a:ext cx="8458200" cy="137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 you can make an approximation if x is very small!  Check does [acid]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/Ka &gt;1000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Rule of thumb: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r smaller is o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01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quilibria Involving A Weak Ac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Equilibria Involving A Weak Ac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Step 3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ve K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express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104840" y="2629080"/>
          <a:ext cx="63118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29080"/>
                    <a:ext cx="6311880" cy="83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657600"/>
            <a:ext cx="6491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assume x is very small becaus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so sm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137040" y="4622760"/>
          <a:ext cx="328932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7040" y="4622760"/>
                    <a:ext cx="328932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143000" y="5562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we can more easily solve this approximate ex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Step 3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ve K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approxima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ress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927520" y="2641680"/>
          <a:ext cx="328896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7520" y="2641680"/>
                    <a:ext cx="328896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000" y="3657600"/>
            <a:ext cx="716364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cccc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cccc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] =  [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OAc</a:t>
            </a:r>
            <a:r>
              <a:rPr b="1" lang="en-US" sz="2400" spc="-1" strike="noStrike" baseline="30000">
                <a:solidFill>
                  <a:srgbClr val="cccc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ccccff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-log (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2.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Equilibria Involving A Weak Aci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001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Equilibria Involving A Weak Ac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lculate the pH of a 0.0010 M solution of formic acid, H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   +  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↔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H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+  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Arial"/>
              </a:rPr>
              <a:t>Approximate solu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M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90015"/>
                </a:solidFill>
                <a:latin typeface="Arial"/>
              </a:rPr>
              <a:t>pH = 3.3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Exact Solu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] = [H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]  =  3.4 x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]  =  0.0010 - 3.4 x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= 0.0007 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790015"/>
                </a:solidFill>
                <a:latin typeface="Arial"/>
              </a:rPr>
              <a:t>pH = 3.47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8400" y="838080"/>
            <a:ext cx="75945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Comic Sans MS"/>
              </a:rPr>
              <a:t>Equilibrium Constants  </a:t>
            </a:r>
            <a:br>
              <a:rPr sz="4400"/>
            </a:br>
            <a:r>
              <a:rPr b="0" lang="en-US" sz="4400" spc="-1" strike="noStrike">
                <a:solidFill>
                  <a:srgbClr val="ccccff"/>
                </a:solidFill>
                <a:latin typeface="Comic Sans MS"/>
              </a:rPr>
              <a:t>for Weak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85840" y="4730760"/>
            <a:ext cx="67309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base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1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03400" y="1981080"/>
            <a:ext cx="6933960" cy="23497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702400" cy="62229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48160" y="1981080"/>
            <a:ext cx="24382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Comic Sans MS"/>
              </a:rPr>
              <a:t>Relation of K</a:t>
            </a:r>
            <a:r>
              <a:rPr b="0" lang="en-US" sz="4400" spc="-1" strike="noStrike" baseline="-25000">
                <a:solidFill>
                  <a:srgbClr val="ccccff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ccccff"/>
                </a:solidFill>
                <a:latin typeface="Comic Sans MS"/>
              </a:rPr>
              <a:t>, K</a:t>
            </a:r>
            <a:r>
              <a:rPr b="0" lang="en-US" sz="4400" spc="-1" strike="noStrike" baseline="-25000">
                <a:solidFill>
                  <a:srgbClr val="ccccff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ccccff"/>
                </a:solidFill>
                <a:latin typeface="Comic Sans MS"/>
              </a:rPr>
              <a:t>, [H</a:t>
            </a:r>
            <a:r>
              <a:rPr b="0" lang="en-US" sz="4400" spc="-1" strike="noStrike" baseline="-25000">
                <a:solidFill>
                  <a:srgbClr val="ccccff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ccccff"/>
                </a:solidFill>
                <a:latin typeface="Comic Sans MS"/>
              </a:rPr>
              <a:t>O</a:t>
            </a:r>
            <a:r>
              <a:rPr b="0" lang="en-US" sz="4400" spc="-1" strike="noStrike" baseline="30000">
                <a:solidFill>
                  <a:srgbClr val="ccccff"/>
                </a:solidFill>
                <a:latin typeface="Comic Sans MS"/>
              </a:rPr>
              <a:t>+</a:t>
            </a:r>
            <a:r>
              <a:rPr b="0" lang="en-US" sz="4400" spc="-1" strike="noStrike">
                <a:solidFill>
                  <a:srgbClr val="ccccff"/>
                </a:solidFill>
                <a:latin typeface="Comic Sans MS"/>
              </a:rPr>
              <a:t>] and 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Equilibria Involving A Weak 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↔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Step 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0015"/>
                </a:solidFill>
                <a:latin typeface="Times New Roman"/>
              </a:rPr>
              <a:t>initial</a:t>
            </a:r>
            <a:r>
              <a:rPr b="0" lang="en-US" sz="3600" spc="-1" strike="noStrike">
                <a:solidFill>
                  <a:srgbClr val="790015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400"/>
                </a:solidFill>
                <a:latin typeface="Times New Roman"/>
              </a:rPr>
              <a:t>change</a:t>
            </a:r>
            <a:r>
              <a:rPr b="0" lang="en-US" sz="3600" spc="-1" strike="noStrike">
                <a:solidFill>
                  <a:srgbClr val="005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equilib</a:t>
            </a: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Equilibria Involving A Weak 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Step 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e the equilibrium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90720" y="3301920"/>
          <a:ext cx="65404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01920"/>
                    <a:ext cx="6540480" cy="863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760" y="4408560"/>
            <a:ext cx="8026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ume x is smal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0.010 -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≈  0.01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The approximation is valid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Comic Sans MS"/>
              </a:rPr>
              <a:t>Equilibria Involving A Weak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tep 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=  4.2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pOH = - log [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 =  3.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pH + pOH = 14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Arial"/>
              </a:rPr>
              <a:t>pH = 10.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568920" y="2158920"/>
            <a:ext cx="1187640" cy="3301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enerally divide acids and bases into STRONG or WEAK on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STRONG ACID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(aq)   +  H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O (l)   </a:t>
            </a:r>
            <a:r>
              <a:rPr b="0" lang="en-US" sz="25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(aq)   +   NO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is about 100% ionized in wate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4191120"/>
            <a:ext cx="2959200" cy="2361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81480" y="4191120"/>
            <a:ext cx="3657600" cy="2367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ccff"/>
                </a:solidFill>
                <a:uFillTx/>
                <a:latin typeface="Arial"/>
              </a:rPr>
              <a:t>Strong and Weak Acids/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Types of Acid/Base Reactions: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523880"/>
            <a:ext cx="716256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280" y="1922400"/>
            <a:ext cx="8915400" cy="272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534240" y="1066680"/>
            <a:ext cx="5385960" cy="510120"/>
            <a:chOff x="534240" y="1066680"/>
            <a:chExt cx="5385960" cy="510120"/>
          </a:xfrm>
        </p:grpSpPr>
        <p:sp>
          <p:nvSpPr>
            <p:cNvPr id="145" name=""/>
            <p:cNvSpPr/>
            <p:nvPr/>
          </p:nvSpPr>
          <p:spPr>
            <a:xfrm>
              <a:off x="534240" y="1066680"/>
              <a:ext cx="5385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F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+ H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        OH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+ HF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768400" y="1231920"/>
              <a:ext cx="609840" cy="152280"/>
              <a:chOff x="2768400" y="1231920"/>
              <a:chExt cx="609840" cy="152280"/>
            </a:xfrm>
          </p:grpSpPr>
          <p:sp>
            <p:nvSpPr>
              <p:cNvPr id="147" name=""/>
              <p:cNvSpPr/>
              <p:nvPr/>
            </p:nvSpPr>
            <p:spPr>
              <a:xfrm>
                <a:off x="2768760" y="1231920"/>
                <a:ext cx="6094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768400" y="1384200"/>
                <a:ext cx="6094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217440" y="45720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eak Bas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are weak e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92440" y="107964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51880" y="1611360"/>
            <a:ext cx="6074640" cy="510120"/>
            <a:chOff x="551880" y="1611360"/>
            <a:chExt cx="6074640" cy="510120"/>
          </a:xfrm>
        </p:grpSpPr>
        <p:sp>
          <p:nvSpPr>
            <p:cNvPr id="152" name=""/>
            <p:cNvSpPr/>
            <p:nvPr/>
          </p:nvSpPr>
          <p:spPr>
            <a:xfrm>
              <a:off x="551880" y="1611360"/>
              <a:ext cx="60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NO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+ H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   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OH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+ HNO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3136680" y="1765440"/>
              <a:ext cx="609840" cy="152280"/>
              <a:chOff x="3136680" y="1765440"/>
              <a:chExt cx="609840" cy="152280"/>
            </a:xfrm>
          </p:grpSpPr>
          <p:sp>
            <p:nvSpPr>
              <p:cNvPr id="154" name=""/>
              <p:cNvSpPr/>
              <p:nvPr/>
            </p:nvSpPr>
            <p:spPr>
              <a:xfrm>
                <a:off x="3137040" y="1765440"/>
                <a:ext cx="6094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3136680" y="1917720"/>
                <a:ext cx="6094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228600" y="2666880"/>
            <a:ext cx="868680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gate acid-base pa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conjugate base of a strong acid has no measurabl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s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rongest ac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at can exist in aqueous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O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on is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strongest 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at can exist in aqueous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0" t="3815" r="0" b="0"/>
          <a:stretch/>
        </p:blipFill>
        <p:spPr>
          <a:xfrm>
            <a:off x="152280" y="76320"/>
            <a:ext cx="8836200" cy="6610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8600" y="534960"/>
            <a:ext cx="8686800" cy="5784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357560" y="-1116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838080"/>
            <a:ext cx="990720" cy="1067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91520" y="1295280"/>
            <a:ext cx="76176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35840" y="863640"/>
            <a:ext cx="5335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1280" y="-1116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0840" y="673200"/>
            <a:ext cx="31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ercent ioniz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159360" y="533520"/>
            <a:ext cx="5830200" cy="768600"/>
            <a:chOff x="3159360" y="533520"/>
            <a:chExt cx="5830200" cy="768600"/>
          </a:xfrm>
        </p:grpSpPr>
        <p:grpSp>
          <p:nvGrpSpPr>
            <p:cNvPr id="169" name=""/>
            <p:cNvGrpSpPr/>
            <p:nvPr/>
          </p:nvGrpSpPr>
          <p:grpSpPr>
            <a:xfrm>
              <a:off x="3159360" y="533520"/>
              <a:ext cx="4723920" cy="768600"/>
              <a:chOff x="3159360" y="533520"/>
              <a:chExt cx="4723920" cy="768600"/>
            </a:xfrm>
          </p:grpSpPr>
          <p:sp>
            <p:nvSpPr>
              <p:cNvPr id="170" name=""/>
              <p:cNvSpPr/>
              <p:nvPr/>
            </p:nvSpPr>
            <p:spPr>
              <a:xfrm>
                <a:off x="3159360" y="533520"/>
                <a:ext cx="472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Ionized acid concentration at equilibriu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25440" y="903240"/>
                <a:ext cx="3193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Initial concentration of aci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235320" y="903240"/>
                <a:ext cx="4572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7792200" y="6746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 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768400" y="160020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 monoprotic acid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31480" y="2286000"/>
            <a:ext cx="4844520" cy="968760"/>
            <a:chOff x="231480" y="2286000"/>
            <a:chExt cx="4844520" cy="968760"/>
          </a:xfrm>
        </p:grpSpPr>
        <p:sp>
          <p:nvSpPr>
            <p:cNvPr id="176" name=""/>
            <p:cNvSpPr/>
            <p:nvPr/>
          </p:nvSpPr>
          <p:spPr>
            <a:xfrm>
              <a:off x="231480" y="2528640"/>
              <a:ext cx="294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ercent ionization 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3097080" y="2286000"/>
              <a:ext cx="872640" cy="968760"/>
              <a:chOff x="3097080" y="2286000"/>
              <a:chExt cx="872640" cy="968760"/>
            </a:xfrm>
          </p:grpSpPr>
          <p:sp>
            <p:nvSpPr>
              <p:cNvPr id="178" name=""/>
              <p:cNvSpPr/>
              <p:nvPr/>
            </p:nvSpPr>
            <p:spPr>
              <a:xfrm>
                <a:off x="3196080" y="2286000"/>
                <a:ext cx="67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[H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Arial"/>
                  </a:rPr>
                  <a:t>+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097080" y="2744640"/>
                <a:ext cx="872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[HA]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190680" y="276840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878640" y="25272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 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229720" y="2527200"/>
            <a:ext cx="382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HA]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initial 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8021" r="0" b="0"/>
          <a:stretch/>
        </p:blipFill>
        <p:spPr>
          <a:xfrm>
            <a:off x="2362320" y="3352680"/>
            <a:ext cx="4419360" cy="3376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3000" y="141120"/>
            <a:ext cx="81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ization Constants of Conjugate Acid-Base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82520" y="1143000"/>
            <a:ext cx="4008240" cy="459720"/>
            <a:chOff x="1982520" y="1143000"/>
            <a:chExt cx="4008240" cy="459720"/>
          </a:xfrm>
        </p:grpSpPr>
        <p:sp>
          <p:nvSpPr>
            <p:cNvPr id="188" name=""/>
            <p:cNvSpPr/>
            <p:nvPr/>
          </p:nvSpPr>
          <p:spPr>
            <a:xfrm>
              <a:off x="1982520" y="1143000"/>
              <a:ext cx="400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A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H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+ A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aq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3063240" y="1306440"/>
              <a:ext cx="609840" cy="152280"/>
              <a:chOff x="3063240" y="1306440"/>
              <a:chExt cx="609840" cy="1522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63600" y="1306440"/>
                <a:ext cx="609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3063240" y="1458720"/>
                <a:ext cx="609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1148400" y="1752480"/>
            <a:ext cx="5352840" cy="560880"/>
            <a:chOff x="1148400" y="1752480"/>
            <a:chExt cx="5352840" cy="560880"/>
          </a:xfrm>
        </p:grpSpPr>
        <p:sp>
          <p:nvSpPr>
            <p:cNvPr id="193" name=""/>
            <p:cNvSpPr/>
            <p:nvPr/>
          </p:nvSpPr>
          <p:spPr>
            <a:xfrm>
              <a:off x="1148400" y="1752480"/>
              <a:ext cx="535284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+ 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OH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+ HA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aq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352320" y="1917360"/>
              <a:ext cx="609840" cy="152280"/>
              <a:chOff x="3352320" y="1917360"/>
              <a:chExt cx="609840" cy="152280"/>
            </a:xfrm>
          </p:grpSpPr>
          <p:sp>
            <p:nvSpPr>
              <p:cNvPr id="195" name=""/>
              <p:cNvSpPr/>
              <p:nvPr/>
            </p:nvSpPr>
            <p:spPr>
              <a:xfrm>
                <a:off x="3352680" y="1917360"/>
                <a:ext cx="609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3352320" y="2069640"/>
                <a:ext cx="609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6823800" y="11430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15880" y="175248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2209680"/>
            <a:ext cx="541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029200" y="1219320"/>
            <a:ext cx="38088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143000" y="1752120"/>
            <a:ext cx="38088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057400" y="1219320"/>
            <a:ext cx="38088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460840" y="1778040"/>
            <a:ext cx="38124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830600" y="2362320"/>
            <a:ext cx="4179240" cy="560880"/>
            <a:chOff x="1830600" y="2362320"/>
            <a:chExt cx="4179240" cy="560880"/>
          </a:xfrm>
        </p:grpSpPr>
        <p:sp>
          <p:nvSpPr>
            <p:cNvPr id="205" name=""/>
            <p:cNvSpPr/>
            <p:nvPr/>
          </p:nvSpPr>
          <p:spPr>
            <a:xfrm>
              <a:off x="2928960" y="25257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928960" y="26780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30600" y="2362320"/>
              <a:ext cx="417924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H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+ OH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825960" y="236232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45440" y="3200400"/>
            <a:ext cx="1649520" cy="690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48480" y="430704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eak Acid and Its Conjugat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445480" y="5181480"/>
            <a:ext cx="1234440" cy="927720"/>
            <a:chOff x="2445480" y="5181480"/>
            <a:chExt cx="1234440" cy="927720"/>
          </a:xfrm>
        </p:grpSpPr>
        <p:sp>
          <p:nvSpPr>
            <p:cNvPr id="212" name=""/>
            <p:cNvSpPr/>
            <p:nvPr/>
          </p:nvSpPr>
          <p:spPr>
            <a:xfrm>
              <a:off x="2445480" y="5399280"/>
              <a:ext cx="83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139920" y="5181480"/>
              <a:ext cx="540000" cy="927720"/>
              <a:chOff x="3139920" y="5181480"/>
              <a:chExt cx="540000" cy="927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168360" y="51814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Arial"/>
                  </a:rPr>
                  <a:t>K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48560" y="5599080"/>
                <a:ext cx="482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Arial"/>
                  </a:rPr>
                  <a:t>K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139920" y="5649840"/>
                <a:ext cx="5335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5172840" y="5181480"/>
            <a:ext cx="1234440" cy="927720"/>
            <a:chOff x="5172840" y="5181480"/>
            <a:chExt cx="1234440" cy="927720"/>
          </a:xfrm>
        </p:grpSpPr>
        <p:sp>
          <p:nvSpPr>
            <p:cNvPr id="218" name=""/>
            <p:cNvSpPr/>
            <p:nvPr/>
          </p:nvSpPr>
          <p:spPr>
            <a:xfrm>
              <a:off x="5172840" y="5399280"/>
              <a:ext cx="83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5867280" y="5181480"/>
              <a:ext cx="540000" cy="927720"/>
              <a:chOff x="5867280" y="5181480"/>
              <a:chExt cx="540000" cy="927720"/>
            </a:xfrm>
          </p:grpSpPr>
          <p:sp>
            <p:nvSpPr>
              <p:cNvPr id="220" name=""/>
              <p:cNvSpPr/>
              <p:nvPr/>
            </p:nvSpPr>
            <p:spPr>
              <a:xfrm>
                <a:off x="5895720" y="51814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Arial"/>
                  </a:rPr>
                  <a:t>K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875920" y="5599080"/>
                <a:ext cx="482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Arial"/>
                  </a:rPr>
                  <a:t>K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67280" y="5649840"/>
                <a:ext cx="5335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4476" r="0" b="0"/>
          <a:stretch/>
        </p:blipFill>
        <p:spPr>
          <a:xfrm>
            <a:off x="609480" y="2413080"/>
            <a:ext cx="7921800" cy="2692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491480" y="65160"/>
            <a:ext cx="61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cular Structure and Acid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19680" y="609480"/>
            <a:ext cx="2895840" cy="537480"/>
            <a:chOff x="1219680" y="609480"/>
            <a:chExt cx="2895840" cy="537480"/>
          </a:xfrm>
        </p:grpSpPr>
        <p:sp>
          <p:nvSpPr>
            <p:cNvPr id="226" name=""/>
            <p:cNvSpPr/>
            <p:nvPr/>
          </p:nvSpPr>
          <p:spPr>
            <a:xfrm>
              <a:off x="1219680" y="68724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H  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39720" y="901440"/>
              <a:ext cx="2282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49200" y="901440"/>
              <a:ext cx="7617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91240" y="609480"/>
              <a:ext cx="11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+ X</a:t>
              </a:r>
              <a:r>
                <a:rPr b="0" lang="en-US" sz="28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70040" y="1066680"/>
            <a:ext cx="1752480" cy="1099800"/>
            <a:chOff x="770040" y="1066680"/>
            <a:chExt cx="1752480" cy="1099800"/>
          </a:xfrm>
        </p:grpSpPr>
        <p:sp>
          <p:nvSpPr>
            <p:cNvPr id="231" name=""/>
            <p:cNvSpPr/>
            <p:nvPr/>
          </p:nvSpPr>
          <p:spPr>
            <a:xfrm>
              <a:off x="770040" y="152388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e stronger the bo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1646280" y="10666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751120" y="1523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eaker the ac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571500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 &lt;&lt; HCl &lt; HBr &lt; 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rcRect l="0" t="30001" r="0" b="13748"/>
          <a:stretch/>
        </p:blipFill>
        <p:spPr>
          <a:xfrm>
            <a:off x="3886200" y="4952880"/>
            <a:ext cx="4419720" cy="18669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181480" y="838080"/>
            <a:ext cx="3810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d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491480" y="65160"/>
            <a:ext cx="61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cular Structure and Acid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479600" y="685800"/>
            <a:ext cx="6195240" cy="990360"/>
            <a:chOff x="1479600" y="685800"/>
            <a:chExt cx="6195240" cy="990360"/>
          </a:xfrm>
        </p:grpSpPr>
        <p:grpSp>
          <p:nvGrpSpPr>
            <p:cNvPr id="240" name=""/>
            <p:cNvGrpSpPr/>
            <p:nvPr/>
          </p:nvGrpSpPr>
          <p:grpSpPr>
            <a:xfrm>
              <a:off x="1479600" y="914400"/>
              <a:ext cx="6195240" cy="761760"/>
              <a:chOff x="1479600" y="914400"/>
              <a:chExt cx="6195240" cy="76176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1479600" y="914400"/>
                <a:ext cx="2459880" cy="761760"/>
                <a:chOff x="1479600" y="914400"/>
                <a:chExt cx="2459880" cy="761760"/>
              </a:xfrm>
            </p:grpSpPr>
            <p:sp>
              <p:nvSpPr>
                <p:cNvPr id="242" name=""/>
                <p:cNvSpPr/>
                <p:nvPr/>
              </p:nvSpPr>
              <p:spPr>
                <a:xfrm flipH="1">
                  <a:off x="1479600" y="129528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flipV="1">
                  <a:off x="1479600" y="914400"/>
                  <a:ext cx="45720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>
                  <a:off x="1479600" y="1371600"/>
                  <a:ext cx="45720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938240" y="1066680"/>
                  <a:ext cx="36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Arial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2317680" y="129528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748960" y="10540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>
                  <a:off x="3117960" y="129528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539160" y="106668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4146480" y="12952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5113440" y="914400"/>
                <a:ext cx="1762560" cy="761760"/>
                <a:chOff x="5113440" y="914400"/>
                <a:chExt cx="1762560" cy="761760"/>
              </a:xfrm>
            </p:grpSpPr>
            <p:sp>
              <p:nvSpPr>
                <p:cNvPr id="252" name=""/>
                <p:cNvSpPr/>
                <p:nvPr/>
              </p:nvSpPr>
              <p:spPr>
                <a:xfrm flipH="1">
                  <a:off x="5113440" y="129528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flipV="1">
                  <a:off x="5113440" y="914400"/>
                  <a:ext cx="45720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5113440" y="1371600"/>
                  <a:ext cx="45720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572080" y="1066680"/>
                  <a:ext cx="36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Arial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>
                  <a:off x="5951520" y="129528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388920" y="1003320"/>
                  <a:ext cx="48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Arial"/>
                    </a:rPr>
                    <a:t>O</a:t>
                  </a:r>
                  <a:r>
                    <a:rPr b="0" lang="en-US" sz="2800" spc="-1" strike="noStrike" baseline="30000">
                      <a:solidFill>
                        <a:srgbClr val="ffff00"/>
                      </a:solidFill>
                      <a:latin typeface="Arial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6822000" y="1066680"/>
                <a:ext cx="85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+  H</a:t>
                </a:r>
                <a:r>
                  <a:rPr b="0" lang="en-US" sz="2400" spc="-1" strike="noStrike" baseline="30000">
                    <a:solidFill>
                      <a:srgbClr val="ffff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903400" y="685800"/>
              <a:ext cx="1065960" cy="520560"/>
              <a:chOff x="2903400" y="685800"/>
              <a:chExt cx="1065960" cy="520560"/>
            </a:xfrm>
          </p:grpSpPr>
          <p:sp>
            <p:nvSpPr>
              <p:cNvPr id="260" name=""/>
              <p:cNvSpPr/>
              <p:nvPr/>
            </p:nvSpPr>
            <p:spPr>
              <a:xfrm>
                <a:off x="2903400" y="685800"/>
                <a:ext cx="40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2800" spc="-1" strike="noStrike" baseline="30000">
                    <a:solidFill>
                      <a:srgbClr val="ffff00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17560" y="68580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2800" spc="-1" strike="noStrike" baseline="30000">
                    <a:solidFill>
                      <a:srgbClr val="ffff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533520" y="182880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 O-H bond will be more polar and easier to break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 is very electronegative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 is in a high oxidation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74720" y="3456000"/>
            <a:ext cx="7620120" cy="33526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526400" y="228600"/>
            <a:ext cx="61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cular Structure and Acid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6440" y="1030320"/>
            <a:ext cx="877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Oxoacids having different central atoms (Z) th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 from the same grou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that have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e oxidation nu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9200" y="2097000"/>
            <a:ext cx="83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 strength increases with increasing electronegativity of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25720" y="2514600"/>
            <a:ext cx="2143800" cy="1388520"/>
            <a:chOff x="225720" y="2514600"/>
            <a:chExt cx="2143800" cy="1388520"/>
          </a:xfrm>
        </p:grpSpPr>
        <p:sp>
          <p:nvSpPr>
            <p:cNvPr id="269" name=""/>
            <p:cNvSpPr/>
            <p:nvPr/>
          </p:nvSpPr>
          <p:spPr>
            <a:xfrm>
              <a:off x="225720" y="3265560"/>
              <a:ext cx="193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  O   Cl   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3800" y="3479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44720" y="3479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77880" y="3479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438200" y="3098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23280" y="2705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223640" y="2514600"/>
              <a:ext cx="414360" cy="461160"/>
              <a:chOff x="1223640" y="2514600"/>
              <a:chExt cx="414360" cy="461160"/>
            </a:xfrm>
          </p:grpSpPr>
          <p:sp>
            <p:nvSpPr>
              <p:cNvPr id="276" name=""/>
              <p:cNvSpPr/>
              <p:nvPr/>
            </p:nvSpPr>
            <p:spPr>
              <a:xfrm>
                <a:off x="1223640" y="25160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350720" y="2514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1225440" y="3440160"/>
              <a:ext cx="414360" cy="461160"/>
              <a:chOff x="1225440" y="3440160"/>
              <a:chExt cx="414360" cy="461160"/>
            </a:xfrm>
          </p:grpSpPr>
          <p:sp>
            <p:nvSpPr>
              <p:cNvPr id="279" name=""/>
              <p:cNvSpPr/>
              <p:nvPr/>
            </p:nvSpPr>
            <p:spPr>
              <a:xfrm>
                <a:off x="1225440" y="3441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52520" y="3440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703080" y="3060720"/>
              <a:ext cx="414360" cy="461160"/>
              <a:chOff x="703080" y="3060720"/>
              <a:chExt cx="414360" cy="461160"/>
            </a:xfrm>
          </p:grpSpPr>
          <p:sp>
            <p:nvSpPr>
              <p:cNvPr id="282" name=""/>
              <p:cNvSpPr/>
              <p:nvPr/>
            </p:nvSpPr>
            <p:spPr>
              <a:xfrm>
                <a:off x="703080" y="3062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30160" y="30607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703080" y="3440160"/>
              <a:ext cx="414360" cy="461160"/>
              <a:chOff x="703080" y="3440160"/>
              <a:chExt cx="414360" cy="461160"/>
            </a:xfrm>
          </p:grpSpPr>
          <p:sp>
            <p:nvSpPr>
              <p:cNvPr id="285" name=""/>
              <p:cNvSpPr/>
              <p:nvPr/>
            </p:nvSpPr>
            <p:spPr>
              <a:xfrm>
                <a:off x="703080" y="3441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30160" y="3440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1908000" y="3278160"/>
              <a:ext cx="461520" cy="414000"/>
              <a:chOff x="1908000" y="3278160"/>
              <a:chExt cx="461520" cy="414000"/>
            </a:xfrm>
          </p:grpSpPr>
          <p:sp>
            <p:nvSpPr>
              <p:cNvPr id="288" name=""/>
              <p:cNvSpPr/>
              <p:nvPr/>
            </p:nvSpPr>
            <p:spPr>
              <a:xfrm rot="16200000">
                <a:off x="1995840" y="33184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200000">
                <a:off x="1994040" y="31917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1758960" y="3441600"/>
              <a:ext cx="414000" cy="461520"/>
              <a:chOff x="1758960" y="3441600"/>
              <a:chExt cx="414000" cy="461520"/>
            </a:xfrm>
          </p:grpSpPr>
          <p:sp>
            <p:nvSpPr>
              <p:cNvPr id="291" name=""/>
              <p:cNvSpPr/>
              <p:nvPr/>
            </p:nvSpPr>
            <p:spPr>
              <a:xfrm>
                <a:off x="1758960" y="34434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85680" y="3441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1757160" y="3048120"/>
              <a:ext cx="414360" cy="461160"/>
              <a:chOff x="1757160" y="3048120"/>
              <a:chExt cx="414360" cy="461160"/>
            </a:xfrm>
          </p:grpSpPr>
          <p:sp>
            <p:nvSpPr>
              <p:cNvPr id="294" name=""/>
              <p:cNvSpPr/>
              <p:nvPr/>
            </p:nvSpPr>
            <p:spPr>
              <a:xfrm>
                <a:off x="1757160" y="30495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84240" y="30481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387440" y="2721240"/>
              <a:ext cx="461520" cy="414360"/>
              <a:chOff x="1387440" y="2721240"/>
              <a:chExt cx="461520" cy="414360"/>
            </a:xfrm>
          </p:grpSpPr>
          <p:sp>
            <p:nvSpPr>
              <p:cNvPr id="297" name=""/>
              <p:cNvSpPr/>
              <p:nvPr/>
            </p:nvSpPr>
            <p:spPr>
              <a:xfrm rot="16200000">
                <a:off x="1475280" y="27619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1473480" y="26348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006560" y="2721240"/>
              <a:ext cx="461160" cy="414360"/>
              <a:chOff x="1006560" y="2721240"/>
              <a:chExt cx="461160" cy="414360"/>
            </a:xfrm>
          </p:grpSpPr>
          <p:sp>
            <p:nvSpPr>
              <p:cNvPr id="300" name=""/>
              <p:cNvSpPr/>
              <p:nvPr/>
            </p:nvSpPr>
            <p:spPr>
              <a:xfrm rot="16200000">
                <a:off x="1094040" y="27619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1092600" y="26348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2" name=""/>
          <p:cNvGrpSpPr/>
          <p:nvPr/>
        </p:nvGrpSpPr>
        <p:grpSpPr>
          <a:xfrm>
            <a:off x="3505680" y="2514600"/>
            <a:ext cx="2153160" cy="1388160"/>
            <a:chOff x="3505680" y="2514600"/>
            <a:chExt cx="2153160" cy="1388160"/>
          </a:xfrm>
        </p:grpSpPr>
        <p:sp>
          <p:nvSpPr>
            <p:cNvPr id="303" name=""/>
            <p:cNvSpPr/>
            <p:nvPr/>
          </p:nvSpPr>
          <p:spPr>
            <a:xfrm>
              <a:off x="3505680" y="3265560"/>
              <a:ext cx="194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  O   Br   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13120" y="3479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34040" y="3479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7200" y="3479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4727520" y="3098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12600" y="2705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4512960" y="2514600"/>
              <a:ext cx="414360" cy="461160"/>
              <a:chOff x="4512960" y="2514600"/>
              <a:chExt cx="414360" cy="461160"/>
            </a:xfrm>
          </p:grpSpPr>
          <p:sp>
            <p:nvSpPr>
              <p:cNvPr id="310" name=""/>
              <p:cNvSpPr/>
              <p:nvPr/>
            </p:nvSpPr>
            <p:spPr>
              <a:xfrm>
                <a:off x="4512960" y="25160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640040" y="2514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514760" y="3440160"/>
              <a:ext cx="414360" cy="461160"/>
              <a:chOff x="4514760" y="3440160"/>
              <a:chExt cx="414360" cy="461160"/>
            </a:xfrm>
          </p:grpSpPr>
          <p:sp>
            <p:nvSpPr>
              <p:cNvPr id="313" name=""/>
              <p:cNvSpPr/>
              <p:nvPr/>
            </p:nvSpPr>
            <p:spPr>
              <a:xfrm>
                <a:off x="4514760" y="3441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641840" y="3440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3992400" y="3060720"/>
              <a:ext cx="414360" cy="461160"/>
              <a:chOff x="3992400" y="3060720"/>
              <a:chExt cx="414360" cy="461160"/>
            </a:xfrm>
          </p:grpSpPr>
          <p:sp>
            <p:nvSpPr>
              <p:cNvPr id="316" name=""/>
              <p:cNvSpPr/>
              <p:nvPr/>
            </p:nvSpPr>
            <p:spPr>
              <a:xfrm>
                <a:off x="3992400" y="3062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19480" y="30607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992400" y="3440160"/>
              <a:ext cx="414360" cy="461160"/>
              <a:chOff x="3992400" y="3440160"/>
              <a:chExt cx="414360" cy="461160"/>
            </a:xfrm>
          </p:grpSpPr>
          <p:sp>
            <p:nvSpPr>
              <p:cNvPr id="319" name=""/>
              <p:cNvSpPr/>
              <p:nvPr/>
            </p:nvSpPr>
            <p:spPr>
              <a:xfrm>
                <a:off x="3992400" y="3441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19480" y="3440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5197320" y="3278160"/>
              <a:ext cx="461520" cy="414360"/>
              <a:chOff x="5197320" y="3278160"/>
              <a:chExt cx="461520" cy="414360"/>
            </a:xfrm>
          </p:grpSpPr>
          <p:sp>
            <p:nvSpPr>
              <p:cNvPr id="322" name=""/>
              <p:cNvSpPr/>
              <p:nvPr/>
            </p:nvSpPr>
            <p:spPr>
              <a:xfrm rot="16200000">
                <a:off x="5285160" y="33188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6200000">
                <a:off x="5283360" y="31917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5047920" y="3441600"/>
              <a:ext cx="414360" cy="461160"/>
              <a:chOff x="5047920" y="3441600"/>
              <a:chExt cx="414360" cy="461160"/>
            </a:xfrm>
          </p:grpSpPr>
          <p:sp>
            <p:nvSpPr>
              <p:cNvPr id="325" name=""/>
              <p:cNvSpPr/>
              <p:nvPr/>
            </p:nvSpPr>
            <p:spPr>
              <a:xfrm>
                <a:off x="5047920" y="34430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75000" y="3441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046480" y="3047760"/>
              <a:ext cx="414360" cy="461520"/>
              <a:chOff x="5046480" y="3047760"/>
              <a:chExt cx="414360" cy="461520"/>
            </a:xfrm>
          </p:grpSpPr>
          <p:sp>
            <p:nvSpPr>
              <p:cNvPr id="328" name=""/>
              <p:cNvSpPr/>
              <p:nvPr/>
            </p:nvSpPr>
            <p:spPr>
              <a:xfrm>
                <a:off x="5046480" y="30495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173560" y="30477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4676760" y="2720880"/>
              <a:ext cx="461160" cy="414000"/>
              <a:chOff x="4676760" y="2720880"/>
              <a:chExt cx="461160" cy="414000"/>
            </a:xfrm>
          </p:grpSpPr>
          <p:sp>
            <p:nvSpPr>
              <p:cNvPr id="331" name=""/>
              <p:cNvSpPr/>
              <p:nvPr/>
            </p:nvSpPr>
            <p:spPr>
              <a:xfrm rot="16200000">
                <a:off x="4764240" y="27612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762800" y="26344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4295880" y="2720880"/>
              <a:ext cx="461160" cy="414000"/>
              <a:chOff x="4295880" y="2720880"/>
              <a:chExt cx="461160" cy="414000"/>
            </a:xfrm>
          </p:grpSpPr>
          <p:sp>
            <p:nvSpPr>
              <p:cNvPr id="334" name=""/>
              <p:cNvSpPr/>
              <p:nvPr/>
            </p:nvSpPr>
            <p:spPr>
              <a:xfrm rot="16200000">
                <a:off x="4383360" y="27612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6200000">
                <a:off x="4381920" y="26344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611640" y="407844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 is more electronegative than 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73240" y="3238560"/>
            <a:ext cx="53316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49600" y="3238560"/>
            <a:ext cx="5335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32720" y="5334120"/>
            <a:ext cx="223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HBr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496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0" t="23752" r="0" b="10004"/>
          <a:stretch/>
        </p:blipFill>
        <p:spPr>
          <a:xfrm>
            <a:off x="4572000" y="4584600"/>
            <a:ext cx="44197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91480" y="65160"/>
            <a:ext cx="61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cular Structure and Acid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6440" y="1030320"/>
            <a:ext cx="877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Oxoacids having the same central atom (Z) but different numbers of attached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4800" y="2097000"/>
            <a:ext cx="87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 strength increases as the oxidation number of Z in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rcRect l="5000" t="4846" r="5000" b="4846"/>
          <a:stretch/>
        </p:blipFill>
        <p:spPr>
          <a:xfrm>
            <a:off x="0" y="2735280"/>
            <a:ext cx="5486400" cy="37879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5419440" y="4251240"/>
            <a:ext cx="3790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lO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HClO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HClO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HC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90440" y="10663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Weak aci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much less than 100% ionized in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One of the best known is acetic acid =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2895480"/>
            <a:ext cx="7632720" cy="35053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52" name=""/>
          <p:cNvSpPr/>
          <p:nvPr/>
        </p:nvSpPr>
        <p:spPr>
          <a:xfrm>
            <a:off x="76212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ccff"/>
                </a:solidFill>
                <a:uFillTx/>
                <a:latin typeface="Arial"/>
              </a:rPr>
              <a:t>Strong and Weak Acids/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196720" y="65160"/>
            <a:ext cx="48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-Base Properties of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280" y="609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utral Solu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1143000"/>
            <a:ext cx="7772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ts containing an alkali metal or alkaline earth metal ion (except B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conjugate base of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o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id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B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247840" y="2438280"/>
            <a:ext cx="4655880" cy="592920"/>
            <a:chOff x="2247840" y="2438280"/>
            <a:chExt cx="4655880" cy="592920"/>
          </a:xfrm>
        </p:grpSpPr>
        <p:sp>
          <p:nvSpPr>
            <p:cNvPr id="352" name=""/>
            <p:cNvSpPr/>
            <p:nvPr/>
          </p:nvSpPr>
          <p:spPr>
            <a:xfrm>
              <a:off x="2247840" y="2571480"/>
              <a:ext cx="465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Cl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+ Cl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05320" y="281268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15760" y="243828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52280" y="3200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sic Solu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3733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ts derived from a strong ba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093680" y="4343400"/>
            <a:ext cx="6777000" cy="643320"/>
            <a:chOff x="1093680" y="4343400"/>
            <a:chExt cx="6777000" cy="643320"/>
          </a:xfrm>
        </p:grpSpPr>
        <p:sp>
          <p:nvSpPr>
            <p:cNvPr id="358" name=""/>
            <p:cNvSpPr/>
            <p:nvPr/>
          </p:nvSpPr>
          <p:spPr>
            <a:xfrm>
              <a:off x="1093680" y="4476600"/>
              <a:ext cx="6777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O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+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56080" y="471816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566520" y="434340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841680" y="5238720"/>
            <a:ext cx="7479360" cy="510120"/>
            <a:chOff x="841680" y="5238720"/>
            <a:chExt cx="7479360" cy="510120"/>
          </a:xfrm>
        </p:grpSpPr>
        <p:sp>
          <p:nvSpPr>
            <p:cNvPr id="362" name=""/>
            <p:cNvSpPr/>
            <p:nvPr/>
          </p:nvSpPr>
          <p:spPr>
            <a:xfrm>
              <a:off x="841680" y="5238720"/>
              <a:ext cx="747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O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4133520" y="5403960"/>
              <a:ext cx="609840" cy="152280"/>
              <a:chOff x="4133520" y="5403960"/>
              <a:chExt cx="609840" cy="152280"/>
            </a:xfrm>
          </p:grpSpPr>
          <p:sp>
            <p:nvSpPr>
              <p:cNvPr id="364" name=""/>
              <p:cNvSpPr/>
              <p:nvPr/>
            </p:nvSpPr>
            <p:spPr>
              <a:xfrm>
                <a:off x="4133880" y="54039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4133520" y="55562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6" name=""/>
          <p:cNvSpPr/>
          <p:nvPr/>
        </p:nvSpPr>
        <p:spPr>
          <a:xfrm>
            <a:off x="7086600" y="512460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49040" y="63849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196720" y="65160"/>
            <a:ext cx="48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-Base Properties of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2280" y="685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id Solu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ts derived from a strong acid and a weak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090880" y="1981080"/>
            <a:ext cx="4954320" cy="643680"/>
            <a:chOff x="2090880" y="1981080"/>
            <a:chExt cx="4954320" cy="643680"/>
          </a:xfrm>
        </p:grpSpPr>
        <p:sp>
          <p:nvSpPr>
            <p:cNvPr id="372" name=""/>
            <p:cNvSpPr/>
            <p:nvPr/>
          </p:nvSpPr>
          <p:spPr>
            <a:xfrm>
              <a:off x="2090880" y="2114640"/>
              <a:ext cx="495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NH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Cl (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     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NH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(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) + Cl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(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560" y="235584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46000" y="198108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H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279520" y="2895480"/>
            <a:ext cx="4588920" cy="510120"/>
            <a:chOff x="2279520" y="2895480"/>
            <a:chExt cx="4588920" cy="510120"/>
          </a:xfrm>
        </p:grpSpPr>
        <p:sp>
          <p:nvSpPr>
            <p:cNvPr id="376" name=""/>
            <p:cNvSpPr/>
            <p:nvPr/>
          </p:nvSpPr>
          <p:spPr>
            <a:xfrm>
              <a:off x="2279520" y="2895480"/>
              <a:ext cx="458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NH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         NH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+ H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3720600" y="3060720"/>
              <a:ext cx="609840" cy="152280"/>
              <a:chOff x="3720600" y="3060720"/>
              <a:chExt cx="609840" cy="152280"/>
            </a:xfrm>
          </p:grpSpPr>
          <p:sp>
            <p:nvSpPr>
              <p:cNvPr id="378" name=""/>
              <p:cNvSpPr/>
              <p:nvPr/>
            </p:nvSpPr>
            <p:spPr>
              <a:xfrm>
                <a:off x="3720960" y="3060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3720600" y="3213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0" name=""/>
          <p:cNvSpPr/>
          <p:nvPr/>
        </p:nvSpPr>
        <p:spPr>
          <a:xfrm>
            <a:off x="5791320" y="2819520"/>
            <a:ext cx="53316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3733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ts with small, highly charged metal cations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C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B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and the conjugate base of a strong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407240" y="4876920"/>
            <a:ext cx="6329520" cy="560880"/>
            <a:chOff x="1407240" y="4876920"/>
            <a:chExt cx="6329520" cy="560880"/>
          </a:xfrm>
        </p:grpSpPr>
        <p:sp>
          <p:nvSpPr>
            <p:cNvPr id="383" name=""/>
            <p:cNvSpPr/>
            <p:nvPr/>
          </p:nvSpPr>
          <p:spPr>
            <a:xfrm>
              <a:off x="1407240" y="4927680"/>
              <a:ext cx="632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l(H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O)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6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         Al(OH)(H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O)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+ H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3339720" y="5092920"/>
              <a:ext cx="609840" cy="152280"/>
              <a:chOff x="3339720" y="5092920"/>
              <a:chExt cx="609840" cy="152280"/>
            </a:xfrm>
          </p:grpSpPr>
          <p:sp>
            <p:nvSpPr>
              <p:cNvPr id="385" name=""/>
              <p:cNvSpPr/>
              <p:nvPr/>
            </p:nvSpPr>
            <p:spPr>
              <a:xfrm>
                <a:off x="3340080" y="50929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3339720" y="52452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2418120" y="48769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3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94480" y="48769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2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8249040" y="63849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196720" y="65160"/>
            <a:ext cx="48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-Base Properties of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280" y="68580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olutions in which both the cation and the anion hydroly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0880" y="1295280"/>
            <a:ext cx="84582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anion &gt;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cation, solution will be b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anion &lt;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cation, solution will be aci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ani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cation, solution will be 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249040" y="63849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rcRect l="0" t="4605" r="0" b="0"/>
          <a:stretch/>
        </p:blipFill>
        <p:spPr>
          <a:xfrm>
            <a:off x="152280" y="2971800"/>
            <a:ext cx="883620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Strong Ba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% dissociated in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OH (aq) 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  +   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2666880"/>
            <a:ext cx="4584600" cy="28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common strong bases include KOH 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O (lime)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(slaked l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57200" y="3048120"/>
            <a:ext cx="3390840" cy="3276360"/>
            <a:chOff x="457200" y="3048120"/>
            <a:chExt cx="3390840" cy="32763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457200" y="3048120"/>
              <a:ext cx="3390840" cy="32763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57" name=""/>
            <p:cNvSpPr/>
            <p:nvPr/>
          </p:nvSpPr>
          <p:spPr>
            <a:xfrm>
              <a:off x="2907360" y="5743440"/>
              <a:ext cx="911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Arial"/>
                </a:rPr>
                <a:t>Ca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76212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ccff"/>
                </a:solidFill>
                <a:uFillTx/>
                <a:latin typeface="Arial"/>
              </a:rPr>
              <a:t>Strong and Weak Acids/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5562720"/>
            <a:ext cx="5029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ong bases are the group I hydrox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ium, strontium, and barium hydroxides are strong, but only soluble in water to 0.01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Weak bas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ss than 100% ionized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of the best known weak bases is am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↔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572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307332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76920" y="3809880"/>
            <a:ext cx="3581280" cy="231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Arial"/>
              </a:rPr>
              <a:t>Weak B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1646280"/>
            <a:ext cx="8877600" cy="4373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66" name=""/>
          <p:cNvSpPr/>
          <p:nvPr/>
        </p:nvSpPr>
        <p:spPr>
          <a:xfrm>
            <a:off x="685800" y="1371600"/>
            <a:ext cx="7543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ccff"/>
                </a:solidFill>
                <a:latin typeface="Arial"/>
              </a:rPr>
              <a:t>Equilibria Involving </a:t>
            </a:r>
            <a:br>
              <a:rPr sz="4200"/>
            </a:br>
            <a:r>
              <a:rPr b="0" lang="en-US" sz="4200" spc="-1" strike="noStrike">
                <a:solidFill>
                  <a:srgbClr val="ccccff"/>
                </a:solidFill>
                <a:latin typeface="Arial"/>
              </a:rPr>
              <a:t>Weak Acids and Bas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acetic acid, 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HO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↔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+     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Conj.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52480" y="3681360"/>
          <a:ext cx="558036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681360"/>
                    <a:ext cx="5580360" cy="1008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09480" y="1447920"/>
            <a:ext cx="75945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5105520"/>
            <a:ext cx="86868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 is designated 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A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 gives the ratio of ions (split up) to molecules (don’t split 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ccff"/>
                </a:solidFill>
                <a:latin typeface="Arial"/>
              </a:rPr>
              <a:t>Ionization Constants for Acids/Bases</a:t>
            </a:r>
            <a:r>
              <a:rPr b="0" lang="en-US" sz="3600" spc="-1" strike="noStrike">
                <a:solidFill>
                  <a:srgbClr val="cccc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73280" y="838080"/>
            <a:ext cx="5794200" cy="5892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75" name=""/>
          <p:cNvSpPr/>
          <p:nvPr/>
        </p:nvSpPr>
        <p:spPr>
          <a:xfrm>
            <a:off x="543240" y="152244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Comic Sans MS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28160" y="1503360"/>
            <a:ext cx="17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Comic Sans MS"/>
              </a:rPr>
              <a:t>Conju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Comic Sans MS"/>
              </a:rPr>
              <a:t>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914400" y="29718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25146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209680"/>
            <a:ext cx="108288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0120" y="5867280"/>
            <a:ext cx="108252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Comic Sans MS"/>
              </a:rPr>
              <a:t>Equilibrium Constants  </a:t>
            </a:r>
            <a:br>
              <a:rPr sz="4400"/>
            </a:br>
            <a:r>
              <a:rPr b="0" lang="en-US" sz="4400" spc="-1" strike="noStrike">
                <a:solidFill>
                  <a:srgbClr val="ccccff"/>
                </a:solidFill>
                <a:latin typeface="Comic Sans MS"/>
              </a:rPr>
              <a:t>for Weak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77760" y="1981080"/>
            <a:ext cx="7188480" cy="2476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84" name=""/>
          <p:cNvSpPr/>
          <p:nvPr/>
        </p:nvSpPr>
        <p:spPr>
          <a:xfrm>
            <a:off x="1200240" y="4730760"/>
            <a:ext cx="6698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acid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9T20:14:37Z</dcterms:created>
  <dc:creator>J. David Robertson</dc:creator>
  <dc:description/>
  <dc:language>en-US</dc:language>
  <cp:lastModifiedBy>C363966</cp:lastModifiedBy>
  <dcterms:modified xsi:type="dcterms:W3CDTF">2014-04-02T19:47:01Z</dcterms:modified>
  <cp:revision>52</cp:revision>
  <dc:subject/>
  <dc:title>Acids and Bases</dc:title>
</cp:coreProperties>
</file>